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3E57C-893D-45D2-A703-0469961A7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51DB2-E4F0-4897-B6D5-098B62A89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0BAD-9A42-4569-8627-9F8DA08E2D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30FA9-DAB4-48F3-82B3-9C9B9446E4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EDC781-1BA9-4736-9641-6D0BECC6FB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5CC6-B4F1-46E2-B1BF-CED018F13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2648AB-942E-4EA5-84C5-821E1A926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AAFDC-A36E-4FDB-8CAE-2BD660720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8D7FF-2F58-4711-B9AC-F11EEAB79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7ABF03-28C0-4446-A210-A895CFD0E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E336E-5FD5-42BB-B524-65451D6A7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0A5F-88CB-4398-BFBE-AA6E2831A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EEC14-72DF-48BB-B051-46A79EB4F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EBB91-99D1-4032-8C80-6AF943AE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D1384-E3E8-4772-ABC3-D5A404C14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D763D-659F-4037-BB1F-BFBF091840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A1A9-249A-4658-AD3D-AE44421C4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99CE8-13C5-4BEF-B220-9B62D338B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C9A4-4343-4112-BD03-375A9A069A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6B66A-6967-4AC6-B589-826D79E7D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FB31-BD0D-4FF7-B864-241C32ADA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E6D5C-4525-45F0-B8A4-96379070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BBBD-7E35-42DB-BBFF-27749A5C0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0303-CE88-455E-AC99-895C89AA0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B20C2-45C1-4F85-8F42-D420F40A3CC3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1245FC-09DA-4590-9E9B-AD4A2B2C3D81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ğitimde Gericilik ve Eğitim Hakkı” Atölyes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ğretmen Anketi Sonuç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çekten laik bir eğitim sisteminde din dersleri olmaz” diyenlerin oranı %83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 derslerinin tamamen kaldırılması gerektiğini savunanların oranı %7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i konular ibadet yerlerinin dışında öğretilmemelidir diyenlerin oranı ise %50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Çocuğunun kullandığı kitaplarda dini simgelerin çokça yer aldığını düşünen velilerin oranı %9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ine aynı oranda veli eğitim sistemimizin her geçen gün daha da gericileştirildiği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lilerin %67’si çocuğunun dini tercihlerinden ötürü ayrımcılığa uğradığını belirtmiş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kete katılan velilerin %33’ü, okullarındaki gerici uygulamalardan ötürü idareyle veya diğer öğretmenlerle çatışma yaşadıklarını dile getirmiş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85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Çocuğunuz bugüne kadar din dersleriyle ya da okulundaki gerici anlayış (dinci – cinsiyetçi –milliyetçi anlayış) nedeniyle sıkıntı yaşadıysa anlatabilir misiniz?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“Din Kültürü öğretmeni çocuğuma ‘yılbaşı kutlamayı bilirsiniz, sure okumayı bilmezsiniz’ diye kızmış, disipline vermekle tehdit etmiş. Veli olarak müdahale etmek zorunda kaldım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3 – “Oruç tutmadığı için çocuğum arkadaşları tarafından, ‘siz Müslüman değil misiniz?’ diye sorularak dışlandı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8 – “Fen Bilgisi öğretmenleri çocuklarımıza fen konuları yerine dini konuları anlatıyordu. Veliler olarak tepki gösterdik ve öğretmen başka bir okula gönderildi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1 - “Çocuğum lisede güzel sanatlar sınavına girip kazandı. Ancak mülakatı geçemedi. Kimliğinde Tunceli yazıyordu. Bununla ilgili sorular sormuşlar. Bununla ilgili olarak elendiğini düşünüyorum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- “Kızıma öğretmenleri ve arkadaşları ‘namaz kılıyor musun’ diye sormuşlar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– “Kızım liseye gidiyor. Arkadaşları namaz kılıp kılmadığını, oruç tutup tutmadığını, hangi mezhepten olduğunu soruyorlarmış. Bu bizi çok tedirgin ediyor.”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– “Kızıma oruç tutuyor musun, namaz kılıyor musun diye soruyorlarmış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kete 44-66 yaşları arasında, çocukları ilkokul 2. sınıftan üniversiteye kadar çeşitli kademelerde öğrenimine devam eden veliler katılmıştı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lilerin %67’si, okulların toplumda genel kabul gören değerlerin öğrencilerin tamamına dayatıldığı kurumlar olduğu görüşüne katıld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kete katılan bütün veliler, toplumu kendi siyasi hedeflerine göre dönüştürme amacında olan iktidarların en büyük dönüşümü eğitim sistemleri üzerinde yapmaya çalıştıkları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lilerin %92’si, Türkiye’de iktidarda olan egemen sınıfın eğitimi gericileştirmeye çalıştığı inancını taşı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ynı oranda veli, 4+4+4 sistemini, eğitimi gericileştirme ve paralılaştırma projesi olarak görü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83’lük bir grup yeni kılık-kıyafet yönetmeliğinin amacının, kız öğrencilerin başlarının daha rahat kapatılabilmesinin sağlanması olduğunu savunu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lilerin %41’i 4+4+4 sisteminden önce laik bir eğitim anlayışımız olduğu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38, daha önceki sistemin de laik olmadığını savunurk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 konuda kararsız olanların oranı %21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75, Türkiye’de hiçbir zaman laik bir eğitim anlayışının hayata geçirilemediği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20:12:16Z</dcterms:created>
  <dc:creator>SAMSUNG</dc:creator>
  <dc:description/>
  <dc:language>en-US</dc:language>
  <cp:lastModifiedBy>SAMSUNG</cp:lastModifiedBy>
  <dcterms:modified xsi:type="dcterms:W3CDTF">2013-01-11T15:34:00Z</dcterms:modified>
  <cp:revision>31</cp:revision>
  <dc:subject/>
  <dc:title>Slayt 1</dc:title>
</cp:coreProperties>
</file>