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E082B-19E4-4534-881E-F0BFAE4B7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CD0B-07AD-4512-BF05-DDCEA9A9B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2B6CD-1778-4A67-A3DF-F36BAA264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1E31-965F-4C41-BD28-5FFCDFA6D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BF363-413A-4D52-B8F6-01BEAA639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E13CE-0406-4F95-BC45-15445E14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FD321-6A6E-4218-8DF1-DE6D149D2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9DDC0-EB73-4BA4-889C-21904D967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1F977-801C-484B-8D68-4751474A8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EDBB-1775-47C1-8C32-CE7E15692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89114-0501-4945-9248-7CCB20B38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4930-D7C4-4FB6-9C7D-5536C7131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FB872-234F-480C-A234-97E6AD5C03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2DDFA4-76D1-4EC6-B2B0-E1C9A1DCD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969989-41DD-4030-BE80-F409EC6A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4211-5482-46DC-96A0-0F3F4B117B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977E3-8573-4093-A018-8CBAE044F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D89E5-9167-49C0-B583-77472DFB6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9A60-6FFD-4B8E-A715-C65711D4F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86CA-902A-4208-9329-7EDEB95DA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5D028-91ED-4588-A99A-0DE449E0F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6DFB7-C599-4C1C-BA78-4D693CF539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8866F-26E2-481E-9849-7393752DE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E926E-555C-4F43-90E8-42CC9AA7A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99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FE99B4-D882-45D9-B363-475EA6EF31D0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tr-TR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07BD-F466-429F-985F-72552EB2A92E}" type="slidenum">
              <a:rPr b="0" lang="tr-TR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33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d8d8e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cccc00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330066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d8d8ec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“</a:t>
            </a:r>
            <a:r>
              <a:rPr b="1" lang="en-US" sz="4800" spc="-1" strike="noStrike">
                <a:solidFill>
                  <a:srgbClr val="330066"/>
                </a:solidFill>
                <a:latin typeface="Arial"/>
              </a:rPr>
              <a:t>Eğitimde Gericilik ve Eğitim Hakkı” Atölyesi</a:t>
            </a:r>
            <a:endParaRPr b="1" lang="en-US" sz="48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848880" y="3049560"/>
            <a:ext cx="624852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Öğretmen Anketi Sonuçlar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Gerçekten laik bir eğitim sisteminde din dersleri olmaz” diyenlerin oranı %6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 derslerinin tamamen kaldırılması gerektiğini savunanların oranı ise %4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atılımcıların %36’sı, Kuran-ı Kerim gibi derslerin okullarda okutulmasını camilerde okutulmasından daha doğru bulu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ini konular ibadet yerlerinin dışında öğretilmemelidir diyenlerin oranı ise %64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Şu anda kullandığımız kitaplarda dini simgelerin çokça yer aldığını düşünenlerin oranı %45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Öğretmenlerin %36’sı bu konuda kararsızken, %19 kitaplarda dini simgelerin yer almadığı görüşünde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n yıllarda dini konularda öğrencilerle daha fazla çatışma yaşamaya başladım” diyen öğretmenlerin oranı %45 iken, çatışma yaşamayan öğretmenler de aynı oranda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10 bu konuda kararsız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Öğretmenlerin %18’i çalıştıkları okullarda dini tercihlerinden ötürü ayrımcılığa uğradıklarını dile getirmiş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kete katılan öğretmenlerin çalıştıkları okulların %73’ünde okul müdürü ve müdür yardımcılarından en az bir tanesi Din Kültürü ve Ahlak Bilgisi Öğretmeni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kullarda açılan dini içerikler sırasıyla şöyle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%27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Kuran-ı Kerim ders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%64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Hz. Muhammed’in Hayatı dersi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%64 </a:t>
            </a:r>
            <a:r>
              <a:rPr b="0" lang="tr-TR" sz="30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 Temel Dini Bilgiler ders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ulların %27’sinde okul yöneticileri öğrencileri dini içerikli seçmeli ders seçme konusunda zorlamışl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Velilerin öğrencileri dini içerikli ders seçmeye zorladığına tanık olan öğretmenlerin oranı ise %55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kulların %55’inde idareciler ve öğretmenler Cuma namazına gidiyorla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uma namazına gitmeyen öğretmenler üzerinde ise bir baskı hissedilmiyo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Okulların %9’unda yönetim, Kutlu Doğum Haftası gibi dini günlerde, resmi zorunlulukların ötesinde özel bir kutlama programı gerçekleştiri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r-TR" sz="3000" spc="-1" strike="noStrike">
                <a:solidFill>
                  <a:srgbClr val="000000"/>
                </a:solidFill>
                <a:latin typeface="Arial"/>
              </a:rPr>
              <a:t>Ankete katılan öğretmenlerin %27’si okullarındaki gerici uygulamalardan ötürü idareyle veya diğer öğretmenlerle çatışma yaşadıklarını dile getirmişle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78595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Şimdiye kadar okulunuzda gerici anlayış (dinci / cinsiyetçi / milliyetçi anlayış) nedeniyle olumsuz bir deneyim yaşadıysanız birkaç cümle ile yazabilir misiniz? 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– “Cuma namazına gitmediğim için okul müdürü ve diğer müdür yardımcısı tarafından dışlandım, mobbinge tabi tutuldum ve müdür yardımcılığından ayrılıp öğretmenliğe geri dönmek zorunda kaldım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04 – “Eski okul müdürümüz Ramazan ayında bütün sınıfları dolaşıp oruç tutmayan öğrencileri tespit ediyordu. Herhangi bir işlem yapmasa da çocuklar üzerinde psikolojik baskı oluşturuyordu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– “Vatandaşlık ve Demokrasi dersinde ‘ülkemizde demokrasi var mı?’ sorusunu tartıştık. Birkaç gün sonra sınıf öğretmenleri yanıma gelip ‘sınıfta siyasi propaganda yapıyormuşsunuz ve öğrencilerle veliler bu durumdan rahatsız olmuş’ dediler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kete 26-54 yaşları arasında, Kadıköy, Üsküdar, Kartal ve Beyoğlu’nda ilkokul, ortaokul ve liselerde çalışan öğretmenler katıld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30066"/>
                </a:solidFill>
                <a:latin typeface="Arial"/>
              </a:rPr>
              <a:t>Kullandığınız ders kitapları ya da diğer kaynaklarda eğitimde gericileştirme ya da ayrımcılık konusuna örnek olabilecek bir bilgi yer aldıysa yazabilir misiniz?</a:t>
            </a:r>
            <a:endParaRPr b="1" lang="en-US" sz="22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2012 – “İnkılap tarihi kitabının militarist, üniversitede öğrendiğim konularla çelişen bir anlayışla yazılmış. Kitapta dayatılan düşünceler evrensellikten ve bilimsel normlardan uzak.”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Öğretmenlerin %91’i, okulların toplumda genel kabul gören değerlerin öğrencilerin tamamına dayatıldığı kurumlar olduğu görüşüne katıldı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Yine aynı oranda öğretmen, toplumu kendi siyasi hedeflerine göre dönüştürme amacında olan iktidarların en büyük dönüşümü eğitim sistemleri üzerinde yapmaya çalıştıkları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nkete katılan öğretmenlerin tamamı, Türkiye’de iktidarda olan egemen sınıfın eğitim sisteminde İslami, milliyetçi ve cinsiyetçi yaklaşımı dayatmaya çalıştığı inancını taşı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4+4+4 sisteminin, eğitimi gericileştirme ve paralılaştırma projesi olduğu görüşünü savunan öğretmenlerin oranı %82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Öğretmenlerin tamamı yeni kılık-kıyafet yönetmeliğinin amacının, kız öğrencilerin başlarının daha rahat kapatılabilmesinin sağlanması olduğunu savunuyor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Öğretmenlerin %18’i 4+4+4 sisteminden önce laik bir eğitim anlayışımız olduğu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46 daha önceki sistemin de laik olmadığını savunurken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 konuda kararsız olanların oranı %36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330066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%64, Türkiye’de hiçbir zaman laik bir eğitim anlayışının hayata geçirilemediği görüşünd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0066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u yargıya katılmayanların oranı ise %18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10T20:12:16Z</dcterms:created>
  <dc:creator>SAMSUNG</dc:creator>
  <dc:description/>
  <dc:language>en-US</dc:language>
  <cp:lastModifiedBy>SAMSUNG</cp:lastModifiedBy>
  <dcterms:modified xsi:type="dcterms:W3CDTF">2013-01-11T15:01:21Z</dcterms:modified>
  <cp:revision>10</cp:revision>
  <dc:subject/>
  <dc:title>Slayt 1</dc:title>
</cp:coreProperties>
</file>